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99D-264A-431D-8381-28E1E643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DA9-F2C8-4580-94CE-00270DE3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A7A-880A-4C3C-A034-EA575F8F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1C3-F9BA-4D69-B1EE-DDCC79F3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767-2892-4B2F-A4B6-536C6B99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10A-38AA-4598-A08F-C3B9AA70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C8C-1156-4AC0-81EC-F030ACD8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ED1-0721-4EF8-82E4-D8B926F1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745-29AE-47D7-AEDE-4C488775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149-A1F9-41E2-8C0E-1E335796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976-39E9-4302-85A3-D99E696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2BF-A598-42C1-8E6F-90502DF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2C28-06C0-4CC5-A4D2-16938E34CE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79280" y="1773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01Z</dcterms:modified>
  <cp:revision>685</cp:revision>
  <dc:subject/>
  <dc:title>Diapositiva 1</dc:title>
</cp:coreProperties>
</file>